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A79-131B-40B4-ACE6-6BB54EF9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E0F-756B-4C77-A113-24BDD6D2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506-33AC-4A01-B361-36E3B1F8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911-1D65-41B7-999F-CCB7C68B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921-502C-4279-BBC6-2D52AA4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40C-CF1B-426A-A3B7-FD7F8E7A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94A-310A-4D19-BDE7-8D90E4FF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499-49AC-44DA-8736-66425677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65D-4998-40C4-B5D4-49821ABD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0B3-E665-4B90-9A46-9043A39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273-D6E9-4FAA-B367-7F89DEE1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36E-AF58-449F-BA9D-12F84B2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A2E-5A47-4026-8D5E-EE5A4929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3320" y="357120"/>
            <a:ext cx="76773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46240" y="22096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3:22:53Z</dcterms:created>
  <dc:creator>claguna</dc:creator>
  <dc:description/>
  <dc:language>en-US</dc:language>
  <cp:lastModifiedBy>claguna</cp:lastModifiedBy>
  <dcterms:modified xsi:type="dcterms:W3CDTF">2007-10-19T11:43:52Z</dcterms:modified>
  <cp:revision>2</cp:revision>
  <dc:subject/>
  <dc:title>Slide 1</dc:title>
</cp:coreProperties>
</file>